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2A8-C90E-4BEA-9101-3A8E066C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D08-B2EB-4995-9B6A-DF80AA4B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ADD-9D57-480F-8BCB-9E45BFC7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AC3-00F5-4DEF-B4C7-388E273E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6048-7315-46DB-B62C-FC427363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638-FAFC-4735-A214-8FB5FC0C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D47-FD6A-4D0D-89AF-0CD32505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9BB-1D30-45A3-B7F2-F924DCB1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6F4-96EE-498A-B2DF-ED707FB0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8985-B093-464D-A560-9BCD3836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87A-F2E5-4E86-8B75-7256B051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276-4E03-43BB-974B-5B9BD812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A4BD-4EB4-469A-AF3A-26305E0C57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03640" y="1916280"/>
            <a:ext cx="3023280" cy="2399400"/>
            <a:chOff x="3203640" y="1916280"/>
            <a:chExt cx="3023280" cy="2399400"/>
          </a:xfrm>
        </p:grpSpPr>
        <p:grpSp>
          <p:nvGrpSpPr>
            <p:cNvPr id="42" name=""/>
            <p:cNvGrpSpPr/>
            <p:nvPr/>
          </p:nvGrpSpPr>
          <p:grpSpPr>
            <a:xfrm>
              <a:off x="3926160" y="3841920"/>
              <a:ext cx="472320" cy="473760"/>
              <a:chOff x="3926160" y="3841920"/>
              <a:chExt cx="472320" cy="473760"/>
            </a:xfrm>
          </p:grpSpPr>
          <p:sp>
            <p:nvSpPr>
              <p:cNvPr id="43" name=""/>
              <p:cNvSpPr/>
              <p:nvPr/>
            </p:nvSpPr>
            <p:spPr>
              <a:xfrm>
                <a:off x="3958200" y="3862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926160" y="384192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5015520" y="3841920"/>
              <a:ext cx="472320" cy="473760"/>
              <a:chOff x="5015520" y="3841920"/>
              <a:chExt cx="472320" cy="473760"/>
            </a:xfrm>
          </p:grpSpPr>
          <p:sp>
            <p:nvSpPr>
              <p:cNvPr id="46" name=""/>
              <p:cNvSpPr/>
              <p:nvPr/>
            </p:nvSpPr>
            <p:spPr>
              <a:xfrm>
                <a:off x="5047200" y="3862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015520" y="384192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3926160" y="1916280"/>
              <a:ext cx="472320" cy="473760"/>
              <a:chOff x="3926160" y="1916280"/>
              <a:chExt cx="472320" cy="473760"/>
            </a:xfrm>
          </p:grpSpPr>
          <p:sp>
            <p:nvSpPr>
              <p:cNvPr id="49" name=""/>
              <p:cNvSpPr/>
              <p:nvPr/>
            </p:nvSpPr>
            <p:spPr>
              <a:xfrm>
                <a:off x="3958200" y="1936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926160" y="191628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5754600" y="2841480"/>
              <a:ext cx="472320" cy="473760"/>
              <a:chOff x="5754600" y="2841480"/>
              <a:chExt cx="472320" cy="473760"/>
            </a:xfrm>
          </p:grpSpPr>
          <p:sp>
            <p:nvSpPr>
              <p:cNvPr id="52" name=""/>
              <p:cNvSpPr/>
              <p:nvPr/>
            </p:nvSpPr>
            <p:spPr>
              <a:xfrm>
                <a:off x="5787360" y="28620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54600" y="284148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013000" y="1916280"/>
              <a:ext cx="472320" cy="473760"/>
              <a:chOff x="5013000" y="1916280"/>
              <a:chExt cx="472320" cy="473760"/>
            </a:xfrm>
          </p:grpSpPr>
          <p:sp>
            <p:nvSpPr>
              <p:cNvPr id="55" name=""/>
              <p:cNvSpPr/>
              <p:nvPr/>
            </p:nvSpPr>
            <p:spPr>
              <a:xfrm>
                <a:off x="5046120" y="19368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13000" y="191628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7" name=""/>
            <p:cNvCxnSpPr>
              <a:stCxn id="44" idx="6"/>
              <a:endCxn id="47" idx="2"/>
            </p:cNvCxnSpPr>
            <p:nvPr/>
          </p:nvCxnSpPr>
          <p:spPr>
            <a:xfrm>
              <a:off x="4398480" y="4078800"/>
              <a:ext cx="6174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" name=""/>
            <p:cNvCxnSpPr>
              <a:stCxn id="47" idx="7"/>
              <a:endCxn id="53" idx="3"/>
            </p:cNvCxnSpPr>
            <p:nvPr/>
          </p:nvCxnSpPr>
          <p:spPr>
            <a:xfrm flipV="1">
              <a:off x="5418720" y="3246120"/>
              <a:ext cx="405360" cy="66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"/>
            <p:cNvCxnSpPr>
              <a:stCxn id="50" idx="6"/>
              <a:endCxn id="56" idx="2"/>
            </p:cNvCxnSpPr>
            <p:nvPr/>
          </p:nvCxnSpPr>
          <p:spPr>
            <a:xfrm>
              <a:off x="4398480" y="2153160"/>
              <a:ext cx="6148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stCxn id="53" idx="1"/>
              <a:endCxn id="56" idx="5"/>
            </p:cNvCxnSpPr>
            <p:nvPr/>
          </p:nvCxnSpPr>
          <p:spPr>
            <a:xfrm flipH="1" flipV="1">
              <a:off x="5416200" y="2320920"/>
              <a:ext cx="407880" cy="59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61" name=""/>
            <p:cNvGrpSpPr/>
            <p:nvPr/>
          </p:nvGrpSpPr>
          <p:grpSpPr>
            <a:xfrm>
              <a:off x="3203640" y="2841480"/>
              <a:ext cx="472320" cy="473760"/>
              <a:chOff x="3203640" y="2841480"/>
              <a:chExt cx="472320" cy="473760"/>
            </a:xfrm>
          </p:grpSpPr>
          <p:sp>
            <p:nvSpPr>
              <p:cNvPr id="62" name=""/>
              <p:cNvSpPr/>
              <p:nvPr/>
            </p:nvSpPr>
            <p:spPr>
              <a:xfrm>
                <a:off x="3236760" y="2862000"/>
                <a:ext cx="30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03640" y="2841480"/>
                <a:ext cx="472320" cy="473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4" name=""/>
            <p:cNvCxnSpPr>
              <a:stCxn id="63" idx="7"/>
              <a:endCxn id="50" idx="3"/>
            </p:cNvCxnSpPr>
            <p:nvPr/>
          </p:nvCxnSpPr>
          <p:spPr>
            <a:xfrm flipV="1">
              <a:off x="3606840" y="2320920"/>
              <a:ext cx="388800" cy="59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" name=""/>
            <p:cNvCxnSpPr>
              <a:stCxn id="63" idx="5"/>
              <a:endCxn id="44" idx="1"/>
            </p:cNvCxnSpPr>
            <p:nvPr/>
          </p:nvCxnSpPr>
          <p:spPr>
            <a:xfrm>
              <a:off x="3606840" y="3246120"/>
              <a:ext cx="388800" cy="66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"/>
            <p:cNvCxnSpPr>
              <a:stCxn id="44" idx="0"/>
              <a:endCxn id="50" idx="4"/>
            </p:cNvCxnSpPr>
            <p:nvPr/>
          </p:nvCxnSpPr>
          <p:spPr>
            <a:xfrm flipV="1">
              <a:off x="4162320" y="2390040"/>
              <a:ext cx="360" cy="145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"/>
            <p:cNvCxnSpPr>
              <a:stCxn id="63" idx="7"/>
              <a:endCxn id="56" idx="3"/>
            </p:cNvCxnSpPr>
            <p:nvPr/>
          </p:nvCxnSpPr>
          <p:spPr>
            <a:xfrm flipV="1">
              <a:off x="3606840" y="2320920"/>
              <a:ext cx="1475640" cy="59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"/>
            <p:cNvCxnSpPr>
              <a:stCxn id="50" idx="5"/>
              <a:endCxn id="53" idx="1"/>
            </p:cNvCxnSpPr>
            <p:nvPr/>
          </p:nvCxnSpPr>
          <p:spPr>
            <a:xfrm>
              <a:off x="4329360" y="2320920"/>
              <a:ext cx="1494720" cy="59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"/>
            <p:cNvCxnSpPr>
              <a:stCxn id="56" idx="4"/>
              <a:endCxn id="47" idx="0"/>
            </p:cNvCxnSpPr>
            <p:nvPr/>
          </p:nvCxnSpPr>
          <p:spPr>
            <a:xfrm>
              <a:off x="5249160" y="2390040"/>
              <a:ext cx="2880" cy="145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" name=""/>
            <p:cNvCxnSpPr>
              <a:stCxn id="53" idx="3"/>
              <a:endCxn id="44" idx="7"/>
            </p:cNvCxnSpPr>
            <p:nvPr/>
          </p:nvCxnSpPr>
          <p:spPr>
            <a:xfrm flipH="1">
              <a:off x="4329360" y="3246120"/>
              <a:ext cx="1494720" cy="66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"/>
            <p:cNvCxnSpPr>
              <a:stCxn id="47" idx="1"/>
              <a:endCxn id="63" idx="5"/>
            </p:cNvCxnSpPr>
            <p:nvPr/>
          </p:nvCxnSpPr>
          <p:spPr>
            <a:xfrm flipH="1" flipV="1">
              <a:off x="3606840" y="3246120"/>
              <a:ext cx="1478160" cy="66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>
              <a:stCxn id="63" idx="6"/>
              <a:endCxn id="53" idx="2"/>
            </p:cNvCxnSpPr>
            <p:nvPr/>
          </p:nvCxnSpPr>
          <p:spPr>
            <a:xfrm>
              <a:off x="3675960" y="3078360"/>
              <a:ext cx="2079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>
              <a:stCxn id="50" idx="5"/>
              <a:endCxn id="47" idx="1"/>
            </p:cNvCxnSpPr>
            <p:nvPr/>
          </p:nvCxnSpPr>
          <p:spPr>
            <a:xfrm>
              <a:off x="4329360" y="2320920"/>
              <a:ext cx="755640" cy="159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>
              <a:stCxn id="56" idx="3"/>
              <a:endCxn id="44" idx="7"/>
            </p:cNvCxnSpPr>
            <p:nvPr/>
          </p:nvCxnSpPr>
          <p:spPr>
            <a:xfrm flipH="1">
              <a:off x="4329360" y="2320920"/>
              <a:ext cx="753120" cy="1590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75" name=""/>
          <p:cNvSpPr/>
          <p:nvPr/>
        </p:nvSpPr>
        <p:spPr>
          <a:xfrm>
            <a:off x="882000" y="857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49:43Z</dcterms:modified>
  <cp:revision>24</cp:revision>
  <dc:subject/>
  <dc:title>Slide 1</dc:title>
</cp:coreProperties>
</file>